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oduction </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general sense reproduction is one of the most important concepts in biology: it means making a copy, a likeness, and thereby providing for the continued existence of species. Although reproduction is often considered solely in terms of the production of offspring  in animals and plants, the more general meaning has far greater significance to living organisms. To appreciate this fact, the origin of life and the evolution of organisms must be considered. One of the first characteristics of life that emerged in primeval times must have been the ability of some primitive chemical system to make copies of itself. At its lowest level, therefore, reproduction is chemical replicatio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 </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sp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e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exu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d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uber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plo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ygo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plo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idu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mi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meant by “reprodu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as one of the first characteristics of life that emerged in primeval tim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unicellular and multicellular organisms reprodu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ontrols the characteristics that an organism inher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are two basic types of reprodu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sexual reprodu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sexual reproduction invol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reproductive system of human being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fertilization occ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causes of disorders of the reproductive system?</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he correct answer in the following:</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orig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ion   development     maturity     begin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regene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e     change          reproduction     extin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fis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ication    variance     division       por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repl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reproduction    creation      proliferation     sepa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words below means nearly the same as “tubu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ing     valve     passage     canal</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words in the text that are opposites of these word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gi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ari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mport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al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adverbs from the given adjective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bor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er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er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eni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Future Tense or The Future Continuous Tense:</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worry about the exam. I’m sure you (pass) 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ve got some incredible news. You never (believe) what’s happen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morrow afternoon, we (do) a very important t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phone me between 8 and 9. we (have) dinner at that ti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opes that he (succeed) in his resear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subject she (teach) next autum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doesn’t feel well. He (stay) at home tod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ive days, they (enjoy) their holiday abroad.</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6"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function of the reproductive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reprodu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roductive system dise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2T10:37:37Z</dcterms:modified>
  <cp:revision>36</cp:revision>
  <dc:subject/>
  <dc:title>Slide 1</dc:title>
</cp:coreProperties>
</file>